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BA6-E7B1-4C6A-8B9B-B6CD57498FE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928C-3FE7-44E7-A3A6-A597E37D054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E0D7-B88A-4573-B4C3-447FC559E48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BECF-9CD7-4FCF-A7F8-84008D94D09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059-D5A8-4363-9CC6-2DA86A51A71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hallenges in partnerships – espeacially bringing together partners for working sessions an institutional challenge or an operational challe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BB72-C56E-4032-8568-FFF6248878D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1CD-8F9F-48FC-846F-F7ADD2BE302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8855-5DE2-4A56-9273-4F2D69B4EDD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A30C-6BBD-4DED-B7EF-ACEE9375DBF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not sure what you mean by Tapping into collective talents?  Slide 7 addresses this issue, but I could not really understand what it is trying to say, perhaps it’s a language 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BB10-41BF-4CA9-834C-9A59A1D4BD9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state at the outset what SETSAN stands for – Technical Secretariat for food and nutrition secur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, you need to differentiate between box 1 and box 4 at the top; I know you will speak about it, but right now, to me both boxes mean the same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5EB-E1C4-42CB-A7A8-A0541C50F29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mean by provincial structure? – you should say whether it’s a focal point (one person) or a Un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3E2-17A8-487D-9606-217D352FF64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interest is in how SETSAN has managed to operate through public-private partnerships, you should emphasise that this is how the working groups are com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3F91-0869-4385-B935-040CA75B878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033F-5D5C-47E5-AC3C-EFB097F7FC6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quite understand the meaning behind the title you gave to this slide. I changed it slightly, but it still does not make much sense to me, especially in regard to the points listed bel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A296-1E85-4192-AA44-613C99AFB38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C8D2-5D4D-4495-BA37-5D1EA6EE0EC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5913-BF37-4593-847C-20619EDF1CD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935-E79F-45C3-8E59-82E03E74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85E-68E5-486C-814D-F7B7E3A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0C2-3B99-4D9D-9CE7-3D852A89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B67-69C2-4553-A276-F8550175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65F2-04BC-49E0-8158-2878F96A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71E3-EAF9-46C2-A33F-3468FE53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7BD6-9FAE-4CED-9E94-B1EE0E6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0CBD-6A57-4C04-8176-EC72A6B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BB61-468F-472F-B822-CD15167B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7D1C-BD6B-4C4A-ABDA-D2667337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A893-AF17-404F-B0A7-0762F8B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D4D-B513-49B7-841F-AFDFD16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9F9B-0BC4-44A1-A272-32A3C12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2D63-949C-45BB-836E-6170A4A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8699-F72A-4F46-B089-C47332E9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71D5-B147-42E1-9D61-C9CBE37B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3F7E-A66F-4BD9-87D3-E5EA6FD4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849-C40D-46BF-939B-1B0F7794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6FA-7534-4524-BE9B-A7418EA4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29D-7ECE-4C89-B60A-ABD07ED1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1E7-7DBD-44BD-99C8-CACEEA3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674-B575-44C9-8BE2-2813394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656-8443-485F-BD51-4F7FB282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CD2-DDBF-4B23-8247-D8D4D46C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2FE-BA44-4FA5-A127-9958133497D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E908-E6AF-40BA-BC04-26814040E8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6633"/>
                </a:solidFill>
                <a:latin typeface="Gill Sans MT"/>
              </a:rPr>
              <a:t>Innovative Approach to Country Capacity and Institution Building 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6633"/>
                </a:solidFill>
                <a:latin typeface="Gill Sans MT"/>
              </a:rPr>
              <a:t>Food and Nutrient Information: Achievements and challenges 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ill Sans MT"/>
              </a:rPr>
              <a:t>Food Security Information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ill Sans MT"/>
              </a:rPr>
              <a:t>Nairobi- Ke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8-9 Septem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Logo Setsan"/>
          <p:cNvPicPr/>
          <p:nvPr/>
        </p:nvPicPr>
        <p:blipFill>
          <a:blip r:embed="rId2"/>
          <a:stretch/>
        </p:blipFill>
        <p:spPr>
          <a:xfrm>
            <a:off x="0" y="0"/>
            <a:ext cx="145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Achievements- Cont…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ill Sans MT"/>
              </a:rPr>
              <a:t>Strategic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ill Sans MT"/>
              </a:rPr>
              <a:t>FSN mainestread into sevreal pol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FYP -2009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EN III -2009-2015 (HIV and A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ENPSB -2010-2020 (Social Prot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RSP 2010-2015     (Pov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AMRDC 2010-2020 (Nutr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EDSA 2011-2020  (Agricultur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DICEPE 2011-2020 (Education- in 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ill Sans MT"/>
              </a:rPr>
              <a:t>FSN now  beeing taught in 2 public Universities  (UEM and Uni-Lu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ill Sans MT"/>
              </a:rPr>
              <a:t>Annual 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gency plan integrating the VA- FInS people 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scenarios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ocial and Economic  Plan with key FSN 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AA8-92D7-45BE-BA95-22360B7A5C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Lessons Learn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TSAN Coordin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litical will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bility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ational Directorate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the minimal level that allows to influence the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udget lin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National and  Provincial levels  is cru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powering of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ivil society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ivate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ong coordination may help stakeholders to increas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ransparenc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o build consen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TSAN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 timely and credible reports, Flashes, Maps and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sis and report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ols preparation: ToRs, questionnaire agreed by differen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Logo Setsan"/>
          <p:cNvPicPr/>
          <p:nvPr/>
        </p:nvPicPr>
        <p:blipFill>
          <a:blip r:embed="rId1"/>
          <a:stretch/>
        </p:blipFill>
        <p:spPr>
          <a:xfrm>
            <a:off x="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858000" y="60958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0"/>
          <p:cNvSpPr/>
          <p:nvPr/>
        </p:nvSpPr>
        <p:spPr>
          <a:xfrm>
            <a:off x="5867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95D-5CAD-46A3-A44B-0C97087E7120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Lessons Learned (Cont…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142640"/>
            <a:ext cx="83822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ountry (national &amp; provincial levels) , RVAC  and SCFS-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keholders and disseminati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orts should be in  Portuguese and Engl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site  and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manent advo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semination MUST be on timely manner (Jun/Ago , Nov/Dec,  Fev/M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C82C-86F0-4F63-A710-AD32CDD50A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815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2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engthening SETSAN –structure and with Staff with multidisciplinary skills and from different institutions (national and provinci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itutional capacity at provincial level (computers,  and c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engthening of Partnerships  taking in consideration that institutions may have different agenda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inging partners together for work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on of National Council for F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engthening of FS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kle Urban vuln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have some balance between the Rural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hronic and acut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ulnerabil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vise FSN Baseline (2011-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ing Targeting of vulnerab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 the dynamic FSN data base in nation and sub-national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Logo Setsan"/>
          <p:cNvPicPr/>
          <p:nvPr/>
        </p:nvPicPr>
        <p:blipFill>
          <a:blip r:embed="rId1"/>
          <a:stretch/>
        </p:blipFill>
        <p:spPr>
          <a:xfrm>
            <a:off x="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9"/>
          <p:cNvSpPr/>
          <p:nvPr/>
        </p:nvSpPr>
        <p:spPr>
          <a:xfrm>
            <a:off x="617220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2C52-A07E-4BFA-87CF-7B1CBE272CBB}" type="slidenum">
              <a:rPr b="1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Challenges- Cont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56280" indent="-31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tinue to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ollection, including P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data base  and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NS 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mption M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s and analytical FSN tools  -including  GIS and m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ort wr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motion of best practices on FSN at commun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wareness Stun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tive campaigns to promote best FSN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E9B-C037-4E41-B130-0BC57504ED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SETSAN structure can be replicated at national, subnation and regional levels (ex. SETSAN for CPLP- Community of Portuguese- Speaking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SETSAN can act as techinal service provider for Natinal Council for FSN as way to bring political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Ownership and political will are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Multisectoral and Multidisciplinary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B33-807A-4FD2-82B8-40D3BA6F3F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2" name="Picture 3" descr="Logo Setsan"/>
          <p:cNvPicPr/>
          <p:nvPr/>
        </p:nvPicPr>
        <p:blipFill>
          <a:blip r:embed="rId1"/>
          <a:stretch/>
        </p:blipFill>
        <p:spPr>
          <a:xfrm>
            <a:off x="0" y="5105520"/>
            <a:ext cx="846000" cy="99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8426520" y="54100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457200" y="320040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Obrigada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Merci Beauc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Kanimam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03240" y="6171480"/>
            <a:ext cx="22608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Gill Sans MT"/>
              </a:rPr>
              <a:t>www.setsan.org.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3"/>
          <p:cNvSpPr/>
          <p:nvPr/>
        </p:nvSpPr>
        <p:spPr>
          <a:xfrm>
            <a:off x="6705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1D5-9C94-4257-B871-B7F02148C5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693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Contents of the present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What is SETS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rgan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How to tap into collective talent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How information can be feed into policy decis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chiev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ssons Learn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Challe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 Setsan"/>
          <p:cNvPicPr/>
          <p:nvPr/>
        </p:nvPicPr>
        <p:blipFill>
          <a:blip r:embed="rId1"/>
          <a:stretch/>
        </p:blipFill>
        <p:spPr>
          <a:xfrm>
            <a:off x="45720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789120" cy="83808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9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0"/>
          <p:cNvSpPr/>
          <p:nvPr/>
        </p:nvSpPr>
        <p:spPr>
          <a:xfrm>
            <a:off x="59436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620E-03AA-4266-A12E-59DE6B84D05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What is SETSAN?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3" descr="Logo Setsan"/>
          <p:cNvPicPr/>
          <p:nvPr/>
        </p:nvPicPr>
        <p:blipFill>
          <a:blip r:embed="rId1"/>
          <a:stretch/>
        </p:blipFill>
        <p:spPr>
          <a:xfrm>
            <a:off x="144360" y="5638680"/>
            <a:ext cx="846360" cy="99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8077320" y="5791320"/>
            <a:ext cx="78876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10"/>
          <p:cNvSpPr/>
          <p:nvPr/>
        </p:nvSpPr>
        <p:spPr>
          <a:xfrm>
            <a:off x="59436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051E-F395-41C8-B428-58A56E1758B5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2971800" y="3124080"/>
            <a:ext cx="3505320" cy="1524240"/>
          </a:xfrm>
          <a:prstGeom prst="ellipse">
            <a:avLst/>
          </a:prstGeom>
          <a:gradFill rotWithShape="0">
            <a:gsLst>
              <a:gs pos="0">
                <a:srgbClr val="b3dcaf"/>
              </a:gs>
              <a:gs pos="100000">
                <a:srgbClr val="ebf6ea"/>
              </a:gs>
            </a:gsLst>
            <a:lin ang="16200000"/>
          </a:gradFill>
          <a:ln w="9360">
            <a:solidFill>
              <a:srgbClr val="3880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TSAN off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 central Off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1 provincial off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4724280"/>
            <a:ext cx="85345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date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cree 24/2010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ouncil of Minister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</a:rPr>
              <a:t>ensuring  coordination of multi-sectoral actions and promotion of FS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457200" y="1371600"/>
            <a:ext cx="213372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SN i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ulti-se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c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505320" y="1295280"/>
            <a:ext cx="213336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forma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6477120" y="1219320"/>
            <a:ext cx="226512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SN in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or N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SETSA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Structure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64A2-00A6-46F6-8A45-D08C9D34EF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838188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609588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6"/>
          <p:cNvSpPr/>
          <p:nvPr/>
        </p:nvSpPr>
        <p:spPr>
          <a:xfrm flipV="1">
            <a:off x="5105520" y="1828800"/>
            <a:ext cx="14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7467480" y="2590920"/>
            <a:ext cx="1524240" cy="12952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Techinical S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(Head of Dpts Gov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NGOs, UN, Dono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543800" y="16002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onsultive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(Nat Director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NGOs, UN , Donors)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733920" y="1447920"/>
            <a:ext cx="2666880" cy="53316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SETSAN Pres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MINAG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733920" y="2819520"/>
            <a:ext cx="2666880" cy="533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Executive Secretar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(SETS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 flipV="1">
            <a:off x="2285640" y="4267080"/>
            <a:ext cx="609588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5105520" y="41911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 flipV="1">
            <a:off x="6400440" y="16765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640044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429000" y="4495680"/>
            <a:ext cx="152388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Policy and   Planning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5257800" y="4495680"/>
            <a:ext cx="175248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echnical  Servic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rain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Advocay and communic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41148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4038480" y="5791320"/>
            <a:ext cx="228600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PROVINCIAL STRU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DO SET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5562360" y="5181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114800" y="5105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1676520" y="4495680"/>
            <a:ext cx="152388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Coordination of FSN Information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7543800" y="4495680"/>
            <a:ext cx="121932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Administ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ive and Finance 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2286000" y="51055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H="1">
            <a:off x="6324120" y="51055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6"/>
          <p:cNvSpPr/>
          <p:nvPr/>
        </p:nvSpPr>
        <p:spPr>
          <a:xfrm flipV="1">
            <a:off x="5103000" y="3354120"/>
            <a:ext cx="32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6"/>
          <p:cNvGraphicFramePr/>
          <p:nvPr/>
        </p:nvGraphicFramePr>
        <p:xfrm>
          <a:off x="609480" y="2057400"/>
          <a:ext cx="16560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656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Oval 27"/>
          <p:cNvSpPr/>
          <p:nvPr/>
        </p:nvSpPr>
        <p:spPr>
          <a:xfrm>
            <a:off x="6324480" y="304920"/>
            <a:ext cx="2362320" cy="1143000"/>
          </a:xfrm>
          <a:prstGeom prst="ellipse">
            <a:avLst/>
          </a:prstGeom>
          <a:solidFill>
            <a:srgbClr val="0aff85"/>
          </a:solidFill>
          <a:ln w="25560">
            <a:solidFill>
              <a:srgbClr val="0af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abinet of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5866920" y="9144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How SETSAN operat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main Units - Information and Poli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working Group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VAC ( Inform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lanning and  Decentralization (Polic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Training on FSN and RtF concepts and tools (bo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Right to Food (Polic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focal point at  Provincial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CE65-1205-429F-8E48-9BCDF2E07A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To operate effectively WG should hav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mon vi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Terms of Refe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hair  with defined focal points from de sectors, NGO and UN ag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Workplan (timeline, defined prior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Expected products (Reports, InfoFlash, Press release, Panflets, maps, modules, etc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ccess to resources (Needs identication: Technical Assistance,Training, Funds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A9B-75E7-4700-9F37-386460AB4C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How to tap into collective talents?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igment of 10 MAIN FSN activities on the Social and Economic  Plan  (PES –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Ju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lanning meeting with United Nation Organizations (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Jul/Ag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nual SteeringCommittee Meeting  (Govt head of Sectors, Provincial SETSAN, UN, Donors, Ngos) – 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Nov - at provinci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ultative Council of Nat Directors, Heads Ngos, UN Reps, Heads  Donors)- 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Dec- chaired by the Minister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1D8-1C06-4350-8122-9C735381B2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How information is fed into policy decision making?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binet of Ministers  (twice a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N- Forum (at least three times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atural Disaster Committee (Contigency pl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s release (as needed)– to advocate FS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conomic and Social Plan – (on 3 M&amp;A Reports submited to MP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ual Operative Plan – (quarterly reports submited to MIN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ring the design of strategic documents (Govt, NGOs, UNs, Donor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A05F-8D35-4ACD-AD82-ECE6B8E273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Achievements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stitu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 Budget line  since 2005 within the Nat. Directorate for Agraria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gal framework  for the creation of SETSAN (Decree 24/2010, approved by the Council of Minist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signed independent state budget to SETSAN in 2011  SETSAN  (activities and operational c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ute of SETSAN is in progress (to be approved by an inter-ministerial Govt. auth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SN Baseline 2006- with interview to 6000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od Security and Nutrition Plan of Action and Strategy (ESAN II-2008-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pling prepared by National Statistics Institute with statistical validity at Provi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C reports disseminated (SADC/RVAC, at national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Independent  impact evaluation  of the process and products  (2009</a:t>
            </a:r>
            <a:r>
              <a:rPr b="0" lang="pt-PT" sz="2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Logo Setsan"/>
          <p:cNvPicPr/>
          <p:nvPr/>
        </p:nvPicPr>
        <p:blipFill>
          <a:blip r:embed="rId1"/>
          <a:stretch/>
        </p:blipFill>
        <p:spPr>
          <a:xfrm>
            <a:off x="152280" y="6095880"/>
            <a:ext cx="693720" cy="76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8354880" y="6019920"/>
            <a:ext cx="78912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7"/>
          <p:cNvSpPr/>
          <p:nvPr/>
        </p:nvSpPr>
        <p:spPr>
          <a:xfrm>
            <a:off x="617220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06D1-19C4-49BF-A425-BDF97D8513A6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05:04Z</dcterms:created>
  <dc:creator>Francisca</dc:creator>
  <dc:description/>
  <dc:language>en-US</dc:language>
  <cp:lastModifiedBy>Valued Acer Customer</cp:lastModifiedBy>
  <dcterms:modified xsi:type="dcterms:W3CDTF">2011-09-09T05:40:45Z</dcterms:modified>
  <cp:revision>133</cp:revision>
  <dc:subject/>
  <dc:title>Slide 1</dc:title>
</cp:coreProperties>
</file>